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1805-E533-404D-96F0-C10F3FC0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C41-8B0A-45BA-86BA-CA80C22A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5313-D25F-4879-8CDC-6D8DB917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A164-DF44-409B-A37F-06891E23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3209-0310-444E-AB34-101F61B9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B79-88D2-4231-9BD7-54F03BB4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C82-2C30-475D-9023-B8811538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71F-703D-45D3-BBD3-43BC2737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81F-4F69-4217-8314-0913CC95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A0EB-04E4-47C0-B095-E0222C9E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589A-E861-45E0-AA37-9B21F384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42FF-C235-44FA-B10A-540EB78D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9926-FD5C-4720-B292-186319925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Cj0309844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66720" y="0"/>
            <a:ext cx="487692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Arial"/>
              </a:rPr>
              <a:t>Red, White, and Blue:  The Story of the American Fla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it 6*Week 2*Day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ntenc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8600" y="0"/>
            <a:ext cx="8686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Today I will draw the biggest chalk picture of sailing ships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0" y="0"/>
            <a:ext cx="91440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333399"/>
                </a:solidFill>
                <a:latin typeface="Arial"/>
              </a:rPr>
              <a:t>I saw Paul as I walked to school last Monday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Did you wash the bait pails that we used when we caught fish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My parents always say it is okay to be afraid or scared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5050"/>
                </a:solidFill>
                <a:latin typeface="Arial"/>
              </a:rPr>
              <a:t>The teacher taught us to raise our hands before giving an answer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In August company came from faraway to stay with us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7:45:47Z</dcterms:created>
  <dc:creator>llefever</dc:creator>
  <dc:description/>
  <dc:language>en-US</dc:language>
  <cp:lastModifiedBy>teacher</cp:lastModifiedBy>
  <dcterms:modified xsi:type="dcterms:W3CDTF">2011-04-18T14:20:41Z</dcterms:modified>
  <cp:revision>3</cp:revision>
  <dc:subject/>
  <dc:title>Red, White, and Blue:  The Story of the American Fla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05639852</vt:r8>
  </property>
  <property fmtid="{D5CDD505-2E9C-101B-9397-08002B2CF9AE}" pid="3" name="_AuthorEmail">
    <vt:lpwstr>LLeFever@bcbe.org</vt:lpwstr>
  </property>
  <property fmtid="{D5CDD505-2E9C-101B-9397-08002B2CF9AE}" pid="4" name="_AuthorEmailDisplayName">
    <vt:lpwstr>Lara M. LeFever</vt:lpwstr>
  </property>
  <property fmtid="{D5CDD505-2E9C-101B-9397-08002B2CF9AE}" pid="5" name="_EmailSubject">
    <vt:lpwstr>2nd grade powerpoints</vt:lpwstr>
  </property>
</Properties>
</file>